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139-240F-4FFC-9BB1-530970E0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15A-D3ED-4F72-BFD1-3226553B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066-66C9-4F90-8D2D-C90C041B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5CE-EA92-4988-9B1C-CBA5D28B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796-A10C-4E13-B6E6-9ABB9D1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82C-B2BC-4676-8E49-70C9DCD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CFD-78F7-41A6-968A-7CF6275B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999-5A7F-4797-B8D7-C1D59C0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2DF-D768-4B88-BAEC-FA4EEE6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D33-535B-4794-A892-40B383D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D35-EB19-41CD-86A5-D479C43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4F7-F834-43F8-A072-32906C4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0FF4-060B-4823-B112-4C45A8CD2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Lucida Sans Unicode"/>
              </a:rPr>
              <a:t>Funny (Irregular)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en! This is a funny word. We sound it o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ay it fas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y turn to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(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und o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,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ere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.   (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r turn to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 Ready ...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ain,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 ready…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und o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ow do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?  Get ready…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es,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81280" y="228600"/>
            <a:ext cx="2743200" cy="62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Sound Combinations:  AR, AL,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Underline the sound comb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nd point under the sound comb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en these letters are together they say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at do these letters say?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ignal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by tapping under the 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Yes,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Return to the Get Ready 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und it out and remember to say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 three seco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 ...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ignal by looping under each sound and to the middle of the __ Return to the Get Ready 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gain, sound it ou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Sig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at wor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Sig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Yes,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562720" y="60660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R Introduced in RMSE K Lesson 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IR Introduced in RMSE K Lesson 1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L Introduced in RMSE K Lesson 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lide27ar"/>
          <p:cNvPicPr/>
          <p:nvPr/>
        </p:nvPicPr>
        <p:blipFill>
          <a:blip r:embed="rId1"/>
          <a:stretch/>
        </p:blipFill>
        <p:spPr>
          <a:xfrm>
            <a:off x="1295280" y="1066680"/>
            <a:ext cx="20527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Slide27ir"/>
          <p:cNvPicPr/>
          <p:nvPr/>
        </p:nvPicPr>
        <p:blipFill>
          <a:blip r:embed="rId2"/>
          <a:stretch/>
        </p:blipFill>
        <p:spPr>
          <a:xfrm>
            <a:off x="6400800" y="0"/>
            <a:ext cx="24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23:46:32Z</dcterms:created>
  <dc:creator>Brown</dc:creator>
  <dc:description/>
  <dc:language>en-US</dc:language>
  <cp:lastModifiedBy>Shari Lovitt</cp:lastModifiedBy>
  <dcterms:modified xsi:type="dcterms:W3CDTF">2010-08-17T13:38:56Z</dcterms:modified>
  <cp:revision>3</cp:revision>
  <dc:subject/>
  <dc:title>Funny (Irregular) Words</dc:title>
</cp:coreProperties>
</file>